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6572-0266-411A-A232-BEF03CCC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7A70-875C-4654-BF9E-0A64592A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0817-EEC5-4D29-93F3-38251B67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5876-F979-4910-8334-843DA2D7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BA8C-CD6C-41FD-9145-026764BF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F1C4-42AB-4F45-9420-1E069BE3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E04F-C0EA-4EC1-BF68-E8ED7B15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0BAF-A4B7-413E-A677-F69C830D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CB97-09FE-46DC-94CB-94DD6A8A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30F6-E54E-488B-8EF5-77F0CDDC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DDE6-AC1D-4FA7-9A00-040202F7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2BBE-DFFD-49F4-ABE2-06B15E95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ADA1-C843-456A-B560-3E569827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D088-411B-450F-B469-D39C4141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4ADF-26E9-496B-9CC3-348B4A0E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6AC7-4AA3-47CA-AC6E-8E13C52B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0C68-21CD-42E9-BD55-05141547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FCD7-8BA1-43B3-A186-C9D11C04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44E7-53B9-4056-95EB-015D554B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3B29-0FF2-4992-B607-4BBC8CDE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646C-29E0-4EE7-887E-9B639271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82D6-C6D1-48AF-AD6E-889F993C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C63A-179B-4EC8-AEC4-23589357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21BE-2421-411D-BE97-4D33AC3B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F9C0-5775-4F09-A5B3-35CDDE44AD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E45A-8CE9-4841-A893-FE338C9022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05240" y="671400"/>
            <a:ext cx="4133520" cy="5043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00"/>
                </a:solidFill>
                <a:latin typeface="Times New Roman"/>
              </a:rPr>
              <a:t>ASSASSINATION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Times New Roman"/>
              </a:rPr>
              <a:t>OF LINCOL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 Dylan and Juwa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5600" y="2685960"/>
            <a:ext cx="5648400" cy="41720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trage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n April 14, 1865 he was attending a performance of the comedy our American cousi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was there with his wife and childre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was shot in the  back of the head by booth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died the next day at 7:22 am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Abraham Lincoln Memorial"/>
          <p:cNvPicPr/>
          <p:nvPr/>
        </p:nvPicPr>
        <p:blipFill>
          <a:blip r:embed="rId1"/>
          <a:stretch/>
        </p:blipFill>
        <p:spPr>
          <a:xfrm>
            <a:off x="4800600" y="380880"/>
            <a:ext cx="3952800" cy="31626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mori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 Washington D.C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tatue of him sitting in a chai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faces towards the reflecting pool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n may 30, 1922 the building was dedicated to Lincol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tatue is made of bronz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iograp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ncoln was born February. 12 1809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orn in a log cabin Hardin county, Kentuck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ncolns mother died in 1818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wanted to be a lawyer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2857320" cy="2847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iography continued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was married to his wife Mary Tod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had 4 sons Robert Todd Lincoln , Edward Baker Lincoln. William Wallace Lincoln, and Thomas Tad Lincol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ther interesting fa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was the first president to get assassinat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created a national banking syste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was very depress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patented a system to alter buoyancy of steamboats in 1849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was the first president to have a bear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57800" y="685800"/>
            <a:ext cx="3448080" cy="55148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restl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liked to wrestle on his free tim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restling was also known as catch-as-catch-ca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was entered in a tournament  by his boss without him knowing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29200" y="685800"/>
            <a:ext cx="3533760" cy="26956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restling continued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wrestled Jack Armstrong in the tournament in Marion count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Jack started kicking and punching and lincoln picked him up and threw him to the ground knocking him unconsciou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became county champion wrestler twice, once in Indiana and Illinoi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2857680" cy="45151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 1860, Lincoln made his first political appearanc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e was listed in the election as a republic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en he won, he made his strongest rivals his cabine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6096240" cy="39909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ur American cous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a comedic pla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plays most famous performance was at fords theater in Washington, D.C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ncoln went to visit the play on April 14 of 1865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81480" y="304920"/>
            <a:ext cx="3638520" cy="4762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urder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00"/>
                </a:solidFill>
                <a:latin typeface="Arial"/>
              </a:rPr>
              <a:t>John Wilkes booth was a member of the nineteenth century booth theatrical family from Maryland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00"/>
                </a:solidFill>
                <a:latin typeface="Arial"/>
              </a:rPr>
              <a:t>He was a very popular act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00"/>
                </a:solidFill>
                <a:latin typeface="Arial"/>
              </a:rPr>
              <a:t>Booth and a group of co-conspirators he led planned to kill Lincoln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2:12:17Z</dcterms:created>
  <dc:creator>dylanmstandridge</dc:creator>
  <dc:description/>
  <dc:language>en-US</dc:language>
  <cp:lastModifiedBy>dylanmstandridge</cp:lastModifiedBy>
  <dcterms:modified xsi:type="dcterms:W3CDTF">2009-03-20T12:21:23Z</dcterms:modified>
  <cp:revision>6</cp:revision>
  <dc:subject/>
  <dc:title>ASSASSINATION OF LINCOLN</dc:title>
</cp:coreProperties>
</file>